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FE1-4CCA-43AD-AEBE-6CCEDAEE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7C4-EA12-44EA-9727-7B68B6D3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CF6-51A6-4850-A3C3-E8DFF1B4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A38-8593-46DC-B885-E894FD3E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2A80-BC22-4F41-A994-D45F1360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8CFB-13DD-4553-9728-8D6C08DD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209C-DAA2-496D-B57F-CCADB2CD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1758-C463-4FC1-A731-F51AF4C4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E239-2911-4472-B441-E2B7E0A5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8FE3-3BD9-45B9-9AC7-CB22A799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63B7-EC52-45E4-A2F7-4DB4671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E8C-2FA4-42A6-88F1-23EA3D61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2821-B801-49CE-A89B-500FD31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8AAF-ED74-42AE-A540-D9B8F17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BFD2-C703-4390-8673-DE11F8E0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69DB-8E37-47EF-BF84-8278F472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7D4-9A93-48BB-BF06-98B21492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141-78AF-4393-9A0B-C9998202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667-F4C5-47C5-85E4-4542805A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908-E345-4281-B889-3459741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9A3-A3CC-482F-8A18-C90E9018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2DA-DA1D-45AF-B2B7-0387742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619-9229-4515-BD22-8174286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0F7-750F-4B9B-B594-F9C971AD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7486-64A2-4C41-8962-9912B42AC9B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AED3-28CF-4D99-A8C4-4CBC37BD24B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acificsciencecenter.org/Education/Resource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8948880" cy="251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57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acific Science Center inspires a lifelong interest in science, math and technology by engaging diverse communities through interactive and innovative exhibits and programs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78920" cy="126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Pacific Science Center has exhibits and activities for students of all ages (k-12). Whether your field trip is an introduction to concepts, or a culmination of a curriculum unit, PSC’s exhibits and school programs include inquiry based learning opportunities that engage students and encourage them to discover and explore the world around them!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Pacific Science Center offers a special program providing FREE bus transportation for school and community groups. To register your school  or community group, call (206) 443-2925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619840" cy="126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ww.pacificsciencecenter.org/Education/Resourc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or educational resources for teachers, including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formational article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cience activiti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-visit workshee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hibit guid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mp-In is a private, after hours experience where you can explore everything Pacific Science Center has to offer, including a hands-on science workshop, live stage show and planetarium show presented by Pacific Science Center's enthusiastic, knowledgeable and entertaining education staf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st: $50 per pers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mes: 5:30pm to 9:30p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o: Families, schools, youth group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gister online or contact: (206) 443-292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22:26Z</dcterms:created>
  <dc:creator>Information Technology</dc:creator>
  <dc:description/>
  <dc:language>en-US</dc:language>
  <cp:lastModifiedBy>Information Technology</cp:lastModifiedBy>
  <dcterms:modified xsi:type="dcterms:W3CDTF">2012-03-05T04:53:15Z</dcterms:modified>
  <cp:revision>4</cp:revision>
  <dc:subject/>
  <dc:title>Pacific Science center By: Andrew (AK47) Kreiter and Alex (AC-Slater) Craighead</dc:title>
</cp:coreProperties>
</file>